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6B1-0A41-4562-9890-3B277602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808E-4A0B-4AF2-AA95-8985F148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EF7-49F5-4686-ABFD-2C88C14E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F85-5C88-4CC4-A476-ACFD9802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7DC-7536-483D-8F32-C941AD47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89E-7DF9-4DE6-A4F4-C0217060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12F-F3AF-4339-9D42-B5C725E5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6CB-A56F-45E5-ABB9-2C4A62EB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CD0-5188-462E-BFB6-4D687C87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171-0E5D-4DF7-9B45-5059AD89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F6A-707C-49A8-B191-EBE2DE8D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561-2714-43C3-B208-4211A924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5DD3-BF2A-4DE3-A7B9-78145B01E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he Distributive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480" y="2220840"/>
            <a:ext cx="49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1: Using the Order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M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15328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686800" cy="952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66880" y="22860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22860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153280" y="2286000"/>
            <a:ext cx="533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777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9280" y="239760"/>
            <a:ext cx="503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2: Using the Distributive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6084720" cy="173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5520" y="9907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( 2 + 5) = 3 (2) + 3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53452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2840" y="2325600"/>
            <a:ext cx="57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we need the order of oper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00:01:54Z</dcterms:created>
  <dc:creator>Graham</dc:creator>
  <dc:description/>
  <dc:language>en-US</dc:language>
  <cp:lastModifiedBy>Graham</cp:lastModifiedBy>
  <dcterms:modified xsi:type="dcterms:W3CDTF">2011-08-31T00:01:59Z</dcterms:modified>
  <cp:revision>1</cp:revision>
  <dc:subject/>
  <dc:title>Lesson 1.9 Order of Operations and the Distributive Property</dc:title>
</cp:coreProperties>
</file>